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636-BF2F-44F9-9C27-B2D212FD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034-54AD-433F-8F43-E0C2354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C84-A150-40C0-A606-7BF4CEBC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EB9-F68C-4BF4-8917-DBACA84C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45D-CA4D-42D2-9D1E-27354ACA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AF8-B88E-4D94-ADBF-DF440BA4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E7F-60D4-41F6-B893-8A71F10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3A0-4AA8-49D3-ADC0-7276833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A22-BDFC-46F3-97B2-68A6CB9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E22-67C8-4B9A-99A6-6E519574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AC9-8028-4B1F-8FEC-033BB0E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D1F-1B15-4124-AA1D-29030F4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ED0-56E9-4451-B28E-325659C094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160640" y="571680"/>
            <a:ext cx="6554520" cy="51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man Old Style"/>
              </a:rPr>
              <a:t>Источники</a:t>
            </a:r>
            <a:endParaRPr b="1" lang="en-US" sz="2400" spc="1" strike="noStrike">
              <a:ln w="12600">
                <a:solidFill>
                  <a:srgbClr val="805b4c"/>
                </a:solidFill>
                <a:miter/>
              </a:ln>
              <a:solidFill>
                <a:srgbClr val="f7e5c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24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man Old Style"/>
              </a:rPr>
              <a:t>противопожарного</a:t>
            </a:r>
            <a:endParaRPr b="1" lang="en-US" sz="2400" spc="1" strike="noStrike">
              <a:ln w="12600">
                <a:solidFill>
                  <a:srgbClr val="805b4c"/>
                </a:solidFill>
                <a:miter/>
              </a:ln>
              <a:solidFill>
                <a:srgbClr val="f7e5c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2400" spc="1" strike="noStrike">
                <a:ln w="12600">
                  <a:solidFill>
                    <a:srgbClr val="805b4c"/>
                  </a:solidFill>
                  <a:miter/>
                </a:ln>
                <a:solidFill>
                  <a:srgbClr val="f7e5c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Bookman Old Style"/>
              </a:rPr>
              <a:t>водоснабжения</a:t>
            </a:r>
            <a:endParaRPr b="1" lang="en-US" sz="2400" spc="1" strike="noStrike">
              <a:ln w="12600">
                <a:solidFill>
                  <a:srgbClr val="805b4c"/>
                </a:solidFill>
                <a:miter/>
              </a:ln>
              <a:solidFill>
                <a:srgbClr val="f7e5c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38040"/>
            <a:ext cx="9144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сположение и вместимость водонапорных баков здания должны обеспечивать получение в любое время суток компактной струи высотой не менее 4 м на верхнем этаже или этаже, расположенном непосредственно под баком, и не менее 6 м — на остальных этажах; при этом число струй следует принимать: две производительностью 2,5 л/с каждая в течение 10 мин при общем расчетном числе струй две и более, одну — в остальных случая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и установке на пожарных кранах датчиков положения пожарных кранов для автоматического пуска пожарных насосов водонапорные баки допускается не предусматривать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1.10 Время работы пожарных кранов следует принимать 3 ч. При установке пожарных кранов на системах автоматического пожаротушения время их работы следует принимать равным времени работы систем автоматического пожаротушения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4.1.11 В зданиях высотой 6 этажей и более при объединенной системе хозяйственно-противопожарного водопровода пожарные стояки следует закольцовывать поверху. При этом для обеспечения сменности воды в зданиях необходимо предусматривать кольцевание противопожарных стояков с одним или несколькими водоразборными стояками с установкой запорной арматуры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тояки раздельной системы противопожарного водопровода рекомендуется соединять перемычками с другими системами водопроводов при условии возможности соединения систем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 противопожарных системах с сухотрубами, расположенных в неотапливаемых зданиях, запорную арматуру следует располагать в отапливаемых помещен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1298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0" y="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пределении мест размещения и числа пожарных стояков и пожарных кранов в зданиях необходимо учитывать след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оизводственных и общественных зданиях при расчетном числе струй не менее трех, а в жилых зданиях — не менее двух на стояках допускается устанавливать спаренные пожарные кра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жилых зданиях с коридорами длиной до 10 м при расчетном числе струй две каждую точку помещения допускается орошать двумя струями, подаваемыми из одного пожарного стоя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жилых зданиях с коридорами длиной свыше 10 м, а также в производственных и общественных зданиях при расчетном числе струй две и более каждую точку помещения следует орошать двумя струями — по одной струе из двух соседних стояков (разных пожарных шкаф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р и м е ч а н и 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Установку пожарных кранов в технических этажах, на чердаках и в техподпольях следует предусматривать при наличии в них сгораемых материалов и конструкц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Число струй, подаваемых из каждого стояка, следует принимать не более дву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При числе струй четыре и более для получения общего требуемого расхода воды допускается использовать пожарные краны на соседних этаж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ЧНИКИ НАРУЖНОГО ПРОТИВОПОЖАР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СНАБ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1 Источники наружного противопожарного водоснабжения: Наружные водопроводные сети с пожарными гидрантами и водные объекты, используемые для целей пожароту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2 Гидрант: Техническое устройство, предназначенное для забора воды из водопровода передвижной пожарной техни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3 Водозаборное сооружение: Гидротехническое сооружение для забора воды из природного или искусственного источника с целью использования ее для нужд водоснабжения, пожароту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4 Водоисточник: Место естественного или искусственного скопления воды, используемой для водоснаб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5 Водопровод: Система сооружений и устройств, доставляющая воду по трубам от водоисточника к месту потреб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6 Водопроводная сеть: Совокупность водопроводных линий (трубопроводов) для подачи воды к местам потреб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7 Водопроводный узел: Система сооружений и устройств, имеющая в своем составе насосные станции и резервуары для воды и предназначенная для поддержания необходимых напоров в водопроводной сети и снятия пиковых расходов воды в часы максимального водопотреб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8 Водоснабжение: Подача воды от водоисточников к местам потребления для обеспечения нужд населения и предприят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9 Насосная стация: Сооружение, предназначенное для забора воды из водоисточника и подачи ее в водопроводные се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10 Резервуар: Инженерное сооружение емкостного типа, предназначенное для хранения запаса воды. Резервуары могут быть металлические, железобетонны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11 Пожарная соединительная головка: Быстросмыкаемая арматура для соединения пожарных рукавов и присоединения их к пожарному оборудованию и пожарным насос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12 Стояк-сухотруб: Незаполненный огнетушащим веществом трубопровод, находящийся под атмосферным давл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0" y="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Требования пожарной безопасности к наружному противопожарному водоснабж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1 Наружное противопожарное водоснабжение должно предусматриваться на территории поселений и организаций. Наружный противопожарный водопровод, как правило, объединяется с хояйственно-питьевым или производственным водопровод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р и м е ч а н и я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опускается осуществлять наружное противопожарное водоснабжение из емкостей (резервуаров, водоемов) с учетом требований пп. 9.1—9.9, а также рек, минимальный дебит которых обеспечивает расчетный расход воды на пожаротушение, с устройством пожарных подъездов или приемных колодцев, для населенных пунктов с числом жителей до 5 тыс. чел.; отдельно стоящих зданий классов функциональной пожарной опасности Ф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3, Ф4 объемом до 1000 м3, расположенных в населенных пунктах, не имеющих кольцевого противопожарного водопровода; всех зданий объемом св. 1000 м3 ; производственных зданий с производствами категорий В, Г и Д по пожарной и взрывопожарной опасности при расходе воды на наружное пожаротушение более 10 л/с; складов грубых кормов объемом до 1000 м3; складов минеральных удобрений объемом зданий до 5000 м3; зданий ради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левизионных передающих станций; зданий холодильников и хранилищ овощей и фру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Допускается не предусматривать противопожарное водоснабжение населенных пунктов с числом жителей 50 чел. при застройке зданиями высотой до двух этажей; отдельно стоящих, расположенных вне населенных пунктов зданий предприятий общественного питания класса функциональной пожарной опасности Ф3.2 при объ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ме зданий до 1000 м3 и предприятий торговли класса функциональной пожарной опасности Ф3.1 при площади до 150 м2 (за исключением промтоварных магазинов), а также зданий классов функциональной пожарной опасности Ф2, Ф3, Ф4 I и II степени огнестойкости объемом до 250 м3, расположенных в населенных пунктах; произ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дственных зданий I и II степени огнестойкости объемом до 1000 м3 (за исключением зданий с металлическими незащищенными или деревянными несущими конструкциями, а также с полимерным утеплителем объемом до 250 м3) с производствами категории Д по пожарной и взрывопожарной опасности; предприятий по изготовлению железобетонных изделий и товарного бетона со зданиями I и II степени огнестойкости, размещаемых в населенных пунктах, оборудованных сетями водопровода при условии размещения гидрантов на расстоянии не более 200 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наиболее удаленного здания; сезонных универсальных приемозаготовительных пунктов сельскохозяйственных продуктов при объеме зданий до 1000 м3; зданий складов горючих материалов и негорючих материалов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ючей упаковке площадью до 50 м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2 Качество воды источников противопожарного водоснабжения должно соответствовать условиям эксплуатации пожарного оборудования и применяемым способам пожаротушени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3 Противопожарный водопровод следует создавать, как правило, низкого давления. Противопожарный водопровод высокого давления создается только при соответствующем обоснован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 водопроводе высокого давления стационарные пожарные насосы должны быть оборудованы устройствами, обеспечивающими пуск насосов не позднее чем через 5 мин после подачи сигнала о возникновении пожара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 р и м е ч а н и е — Для поселений с числом жителей до 5 тыс. чел., в которых не создаются подразделения пожарной охраны, следует создавать противопожарный водопровод высокого давлени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4.4. Минимальный свободный напор в сети противопожарного водопровода низкого давления (на уровне поверхности земли) при пожаротушении должен быть не менее 10 м. Минимальный свободный напор в сети противопожарного водопровода высокого давления должен обеспечивать высоту компактной струи не менее 20 м при максимально необходимом расходе воды на ожаротушение и расположении пожарного ствола на уровне наивысшей точки самого высокого здания. Свободный напор в сети объединенного водопровода должен быть не менее 10 м и не более 60 м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-673560"/>
            <a:ext cx="91440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ящие докумен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едеральный закон № 69-ФЗ от 12 декабря 1994 г. О 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едеральный закон № 123-ФЗ от 22.07.08 г. Технический регламент о требованиях пожарной безопас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становление Правительства РФ № 1479 от 16 сентября 2020 г. О противопожарном режи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вод прави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 10.13130.2009 Внутренний противопожарный водопров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вод прави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 8.13130.2009 Источники наружного противопожарного водоснаб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50920" y="0"/>
            <a:ext cx="8893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УТРЕННИЙ ПРОТИВОПОЖАР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ПРОВ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утренний противопожарный водопровод (ВПВ): совокупность трубопроводов и технических средств, обеспечивающих подачу воды к пожарным кран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донапорный бак: водопитатель, заполненный расчетным объемом воды, находящейся под атмосферным давлением, автоматически обеспечивающий давление в трубопроводах ВПВ за счет пьезометрической высоты расположения над пожарными кранами, а также расчетный расход воды, необходимый для работы пожарных кранов ВПВ до выхода на рабочий режим основного водопитателя (насосной установ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компактной части струи: Условная высота (длина) водяной струи, вытекающей из ручного пожарного ствола, сохраняющей свою компакт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чание— Высота компактной части струи принимается равной 0,8 от высоты вертикальной стру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285840"/>
            <a:ext cx="900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рный кран (ПК): Комплект, состоящий из клапана, установленного на внутреннем противопожарном водопроводе и оборудованного пожарной соединительной головкой, а также пожар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ава с ручным пожарным стволом по ГОСТ Р 5184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жарный шкаф: Вид пожарного инвентаря, предназначенного для размещения и обеспечения сохранности технических средств, применяемых во время пожара по ГОСТ Р 5184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як: Распределительный трубопровод ВПВ с размещенными на нем пожарными кранами, по которому вода подается снизу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22"/>
          <p:cNvSpPr/>
          <p:nvPr/>
        </p:nvSpPr>
        <p:spPr>
          <a:xfrm>
            <a:off x="0" y="0"/>
            <a:ext cx="8964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1 Системы противопожарного водопров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1.1 Для жилых и общественных зданий, а также административно-бытовых зданий промышленных предприятий необходимость устройства внутреннего противопожарного водопровода, а также минимальный расход воды на пожаротушение следует определять в соответствии с таблицей 1, а для производственных и складских зданий — в соответствии с таблицей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 воды на пожаротушение в зависимости от высоты компактной части струи и диаметра спрыска следует уточнять по таблице 3. При этом следует учитывать одновременное действие пожарных кранов и спринклерных или дренчерных установ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0" y="3282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197000"/>
          <a:ext cx="8713800" cy="4248000"/>
        </p:xfrm>
        <a:graphic>
          <a:graphicData uri="http://schemas.openxmlformats.org/drawingml/2006/table">
            <a:tbl>
              <a:tblPr/>
              <a:tblGrid>
                <a:gridCol w="4537080"/>
                <a:gridCol w="1439640"/>
                <a:gridCol w="273708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лые, общественные и административно-бытовые здания и по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пожарных ство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нимальный расход воды на внутреннее пожаротушение, л/с, на одну стру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Жилые зда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числе этажей от 12 до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 же, при общей длине коридора св. 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числе этажей св. 16 до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 же, при общей длине коридора св. 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Здания упра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той от 6 до 10 этажей и объемом до   25 000 м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Прямоугольник 4"/>
          <p:cNvSpPr/>
          <p:nvPr/>
        </p:nvSpPr>
        <p:spPr>
          <a:xfrm>
            <a:off x="179280" y="333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 а б л и ц а 1 — Число пожарных стволов и минимальный расход воды на внутреннее пожароту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50920" y="551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 р и м е ч а н и 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Минимальный расход воды для жилых зданий допускается принимать равным 1,5 л/с при наличии пожарных стволов, рукавов и другого оборудования диаметром 38 м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3373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0" y="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 воды и число струй на внутреннее пожаротушение в общественных и производственных зданиях (независимо от категории) высотой свыше 50 м и объемом до 50 000 м3 следует принимать 4 струи по 5 л/с каждая; при большем объеме зданий — 8 струй по 5 л/с кажд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1.3 В производственных и складских зданиях, для которых в соответствии c таблицей 2 установлена необходимость устройства внутреннего противопожарного водопровода, минимальный расход воды на внутреннее пожаротушение, определенный по таблице 2, следует увеличиват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именении элементов каркаса из незащищенных стальных конструкций в зданиях II и IV степеней огнестойкости, а также из цельной или клееной древесины (в том числе подвергнутой огнезащитной обработке) — на 5 л/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рименении в ограждающих конструкциях зданий IV степени огнестойкости утеплителей из горючих материалов — на 5 л/с для зданий объемом до 10 тыс. м3, при объеме более 10 тыс. м3 дополнительно на 5 л/с на каждые последующие полные или неполные 100 тыс. м3 объе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ебования настоящего пункта не распространяются на здания, для которых в соответствии с таблицей 2 внутренний противопожарный водопровод не требуется предусматри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татическое давление в системе хозяйственно-противопожарного водопровода на отметке наиболее низко расположенного санитарно-технического прибора не должно превышать 0,45 МПа. Гидростатическое давление в системе раздельного противопожарного водопровода на отмет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низко расположенного пожарного крана не должно превышать 0,9 М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расчетном давлении в сети противопожарного водопровода, превышающем 0,45 МПа, необходимо предусматривать устройство раздельной сети противопожарного водопро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 р и м е ч а н и е — При давлении у пожарных кранов более 0,4 МПа между пожарным клапаном и соединительной головкой следует предусматривать установку диафрагм, снижающих избыточное давление. Допускается устанавливать диафрагмы с одинаковым диаметром отверстий на 3 — 4 этажа зд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44071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0" y="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бодное давление у пожарных кранов должны обеспечивать получение компактных пожарных струй высотой, необходимой для тушения пожара в любое время суток в самой высокой и удаленной части помещения. Наименьшую высоту и радиус действия компактной части пожарной струи следует принимать равными высоте помещения, считая от пола до наивысшей точки перекрытия (покрытия), но не менее, 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— в жилых, общественных, производственных и вспомогательных зданиях промышленных предприятий высотой до 50 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 — в жилых зданиях высотой свыше 50 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 — в общественных, производственных и вспомогательных зданиях промышленных предприятий высотой свыше 50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р и м е ч а н и 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Давление у пожарных кранов следует определять с учетом потерь давления в пожарных рукавах дли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, 15 или 20 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Для получения пожарных струй с расходом воды до 4 л/с следует применять пожарные краны с комплектующими с DN 50, для получения пожарных струй большей производительности — c DN 65. При технико-экономическом обосновании допускается применять пожарные краны c DN 50 производительностью свыше 4 л/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кадий</dc:creator>
  <dc:description/>
  <dc:language>en-US</dc:language>
  <cp:lastModifiedBy>АРКАДИЙ</cp:lastModifiedBy>
  <dcterms:modified xsi:type="dcterms:W3CDTF">2022-02-25T07:50:25Z</dcterms:modified>
  <cp:revision>167</cp:revision>
  <dc:subject/>
  <dc:title>PowerPoint Presentation</dc:title>
</cp:coreProperties>
</file>