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41F-04D3-4EB3-B799-2B38DEA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3BD-BA83-4B93-B21F-79F9EB8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F5F-1B0B-4FA5-9335-8B72643A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429-C383-4BD1-888B-B1B7289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6B9-906E-4A4D-A243-8CCC8DD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9D2-2B89-4676-A74F-F18F06BB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319-7661-4951-90A5-6AA2AC38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48C-75EB-4BFA-A9B7-8CA6C0D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BC-135C-4E5A-9AB8-46CEA806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F36-3DA8-4E38-9A4C-7E05D92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4EC-8523-4561-A71E-78EB0F5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873-BBB7-441F-93B0-CBD14FA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F21-66FD-479E-A092-E6690A024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8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348000" y="69228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Тема: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3" name="Picture 4" descr="вода"/>
          <p:cNvPicPr/>
          <p:nvPr/>
        </p:nvPicPr>
        <p:blipFill>
          <a:blip r:embed="rId1"/>
          <a:stretch/>
        </p:blipFill>
        <p:spPr>
          <a:xfrm rot="20314200">
            <a:off x="0" y="4797000"/>
            <a:ext cx="2050920" cy="16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вода"/>
          <p:cNvPicPr/>
          <p:nvPr/>
        </p:nvPicPr>
        <p:blipFill>
          <a:blip r:embed="rId2"/>
          <a:stretch/>
        </p:blipFill>
        <p:spPr>
          <a:xfrm rot="3897600">
            <a:off x="113400" y="210240"/>
            <a:ext cx="2050920" cy="163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вода"/>
          <p:cNvPicPr/>
          <p:nvPr/>
        </p:nvPicPr>
        <p:blipFill>
          <a:blip r:embed="rId3"/>
          <a:stretch/>
        </p:blipFill>
        <p:spPr>
          <a:xfrm flipH="1" rot="1934400">
            <a:off x="6877800" y="4797000"/>
            <a:ext cx="2265480" cy="163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вода"/>
          <p:cNvPicPr/>
          <p:nvPr/>
        </p:nvPicPr>
        <p:blipFill>
          <a:blip r:embed="rId4"/>
          <a:stretch/>
        </p:blipFill>
        <p:spPr>
          <a:xfrm flipH="1" rot="18229800">
            <a:off x="6606000" y="6840"/>
            <a:ext cx="2232000" cy="1897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042920" y="1773360"/>
            <a:ext cx="6840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Bookman Old Style"/>
              </a:rPr>
              <a:t>ПЛАН (СХЕМА)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Bookman Old Style"/>
              </a:rPr>
              <a:t>ЭВАКУАЦИИ РАБОТНИКОВ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Bookman Old Style"/>
              </a:rPr>
              <a:t>В СЛУЧАЕ ПОЖАРА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647800" y="2363760"/>
            <a:ext cx="3848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ТЕРМИН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ОПРЕДЕЛЕНИЯ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20520"/>
            <a:ext cx="8856720" cy="685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ff33"/>
                </a:solidFill>
                <a:latin typeface="Bookman Old Style"/>
              </a:rPr>
              <a:t>ФОТОЛЮМИНЕСЦЕНТНАЯ ЭВАКУАЦИОННАЯ СИСТЕМА (ФЭС)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- совокупность фотолюминесцентных элемент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обеспечивающая заметную и четкую ин-формацию и достаточные визуальные ука-зател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предназначенная для обеспечения эва-куации людей в случае возникновения чрез-вычайной ситуаци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в том числе при аварийном отключении освеще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а также для обеспечения ликвидации чрезвычайной ситу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95280" y="0"/>
            <a:ext cx="8424720" cy="672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Bookman Old Style"/>
              </a:rPr>
              <a:t>ПЛАН ЭВАКУАЦИИ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план (схема), в котором указа-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пути эваку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эвакуационные и аварийные вых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становлены правила поведе-ния людей, 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порядок и последовательность действий в условиях чрезвычай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95280" y="333360"/>
            <a:ext cx="8497800" cy="623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Bookman Old Style"/>
              </a:rPr>
              <a:t>ПУТЬ ЭВАКУАЦИИ (ЭВАКУАЦИОННЫЙ ПУТЬ)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путь движения и (или) пере-мещения людей, ведущ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епосредственно наруж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безопасную зо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довлетворяющий требованиям без-опасной эвакуации людей при по-ж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333360"/>
            <a:ext cx="8497800" cy="40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Bookman Old Style"/>
              </a:rPr>
              <a:t>ЭВАКУАЦИОННЫЙ ВЫХОД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выход, ведущий на путь эва-куации, </a:t>
            </a:r>
            <a:r>
              <a:rPr b="1" lang="ru-RU" sz="3200" spc="-1" strike="noStrike">
                <a:solidFill>
                  <a:srgbClr val="00ffff"/>
                </a:solidFill>
                <a:latin typeface="Bookman Old Style"/>
              </a:rPr>
              <a:t>непосредственно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РУЖ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В БЕЗОПАСНУЮ ЗОНУ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5280" y="115920"/>
            <a:ext cx="8497800" cy="64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Bookman Old Style"/>
              </a:rPr>
              <a:t>АВАРИЙНЫЙ ВЫХОД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- дверь, люк или иной выхо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которые ведут на путь эвакуации, непосредствен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НАРУЖУ ИЛИ В БЕЗОПАСНУЮ ЗОНУ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используются как </a:t>
            </a:r>
            <a:r>
              <a:rPr b="1" lang="en-US" sz="2600" spc="-1" strike="noStrike">
                <a:solidFill>
                  <a:srgbClr val="00ffff"/>
                </a:solidFill>
                <a:latin typeface="Bookman Old Style"/>
              </a:rPr>
              <a:t>ДОПОЛНИТЕЛЬНЫЙ ВЫХОД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для спасания люд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но </a:t>
            </a:r>
            <a:r>
              <a:rPr b="1" lang="en-US" sz="2600" spc="-1" strike="noStrike">
                <a:solidFill>
                  <a:srgbClr val="00ffff"/>
                </a:solidFill>
                <a:latin typeface="Bookman Old Style"/>
              </a:rPr>
              <a:t>НЕ УЧИТЫВАЮТСЯ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при оценке соответствия необходимого числа и размеров эвакуационных путей и эвакуационных выход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и которые удовлетворяют требованиям безопасной эвакуации людей при пожа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2050920" y="1989000"/>
            <a:ext cx="50421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ПРОЕКТИРОВАНИ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ФОТОЛЮМИНЕСЦЕНТНОЙ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ЭВАКУАЦИОННОЙ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СИСТЕМ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24000" y="333360"/>
            <a:ext cx="8569080" cy="631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Проект ФЭС разрабатывает орга-низа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ме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СПЕЦИАЛЬ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РАЗРЕШЕНИЕ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 осуществление данной дея-тельности. 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4000" y="333360"/>
            <a:ext cx="856908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Планы эвакуации следует разрабатывать для всех зда-ний, сооружений в соот-ветствии с требованиями стандарта. 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333360"/>
            <a:ext cx="8569080" cy="615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Планы эвакуации разрабатыва-ются организаци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ме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СПЕЦИАЛЬ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РАЗРЕШЕНИЕ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 осуществление данной дея-тельности.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971640" y="476280"/>
            <a:ext cx="720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Постановление Правительства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Российской Федерации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от 25 апреля 2012 года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№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390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826920" y="3068640"/>
            <a:ext cx="74901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ookman Old Style"/>
              </a:rPr>
              <a:t>О ПРАВИЛАХ</a:t>
            </a:r>
            <a:endParaRPr b="1" lang="en-US" sz="4400" spc="1" strike="noStrike">
              <a:ln w="2844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ookman Old Style"/>
              </a:rPr>
              <a:t>ПРОТИВОПОЖАРНОМ</a:t>
            </a:r>
            <a:endParaRPr b="1" lang="en-US" sz="4400" spc="1" strike="noStrike">
              <a:ln w="2844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ookman Old Style"/>
              </a:rPr>
              <a:t>РЕЖИМЕ</a:t>
            </a:r>
            <a:endParaRPr b="1" lang="en-US" sz="4400" spc="1" strike="noStrike">
              <a:ln w="2844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333360"/>
            <a:ext cx="8569080" cy="444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Планы эвакуации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УТВЕРЖДАЮТСЯ РУКОВОДИТЕЛЕМ ОРГАНИЗАЦИИ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Планы эвакуации в фотолюминесцентном исполнении вывешиваются на видных местах в соответствии с местом расположения, указанном на пл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9280" y="260280"/>
            <a:ext cx="87138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Планы эвакуации следует использовать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систематического обучения и инструктажа персонала правилам поведения на случай возможной эваку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привлечения внимания к путям эвакуац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первичным средствам пожаротушения и самоспас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а также ориентации людей, находящихся в зда-нии, сооружении или объекте (в общежитиях, гости-ницах, больницах, пассажирских вагонах, морских (речных) судах и т.п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в случае возникновения чрезвычайной ситу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для обеспечения организованной эвакуации и спасания люд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проведения аварийно-спасательных работ в процессе ликвидации чрезвычайной сит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411280" y="2349360"/>
            <a:ext cx="43214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РАЗМЕЩЕНИ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ЭЛЕМЕНТОВ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ФЭ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189000"/>
            <a:ext cx="8569080" cy="643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Размещение (монтаж) элементов ФЭС на путях эвакуации осуществляет органи-зац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ме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man Old Style"/>
              </a:rPr>
              <a:t>СПЕЦИАЛЬНОЕ РАЗРЕ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осуществление данной деятель-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Размещение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элементов ФЭС на путях эвакуации осуществляется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соответст-вии с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2411280" y="1523880"/>
            <a:ext cx="4321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Требования 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к 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планам 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эвакуации 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4360" y="476280"/>
            <a:ext cx="7775280" cy="39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Планы эвакуации могут бы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этажным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секционным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локальными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сводными (общим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4200" y="96840"/>
            <a:ext cx="871380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Этажны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планы эвакуации разрабатывают для этаж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Секционны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планы эвакуации следует разрабат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если площадь этажа более 1000 м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при наличии на этаже нескольких обособленных эвакуационных выходов, отделенных от других частей этажа стеной, перегород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при наличии на этаже раздвижных, подъемно-опускных и вращающихся дверей, турник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при сложных (запутанных или протяженных) путях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Локальны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планы эвакуации следует разрабатывать для отдельных помещений (номеров гостиниц, общежитий, больничных палат, кают пассажирских судов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2520"/>
            <a:ext cx="8353440" cy="64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000" spc="-1" strike="noStrike">
                <a:solidFill>
                  <a:srgbClr val="00ffff"/>
                </a:solidFill>
                <a:latin typeface="Bookman Old Style"/>
              </a:rPr>
              <a:t>Вторые экземпляры</a:t>
            </a: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 этажных (секционных) планов эвакуации, отно-сящихся к одному зданию, сооруже-нию, транспортному средству или объекту, включают 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Bookman Old Style"/>
              </a:rPr>
              <a:t>сводный (общий)</a:t>
            </a: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план эвакуации для здания, соору-жения, транспортного средства или объекта в це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Сводные планы эвакуации следу-ет хранить у </a:t>
            </a:r>
            <a:r>
              <a:rPr b="1" lang="ru-RU" sz="3000" spc="-1" strike="noStrike">
                <a:solidFill>
                  <a:srgbClr val="00ffff"/>
                </a:solidFill>
                <a:latin typeface="Bookman Old Style"/>
              </a:rPr>
              <a:t>дежурного</a:t>
            </a: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 и выдавать по первому требованию руководителя ликвидации чрезвычайной ситу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9280" y="333360"/>
            <a:ext cx="8640720" cy="26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ланы эвакуации должны состоять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графическ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текстовой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частей.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353440" cy="59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Bookman Old Style"/>
              </a:rPr>
              <a:t>Графическая часть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олжна включать в себя этажную (секционную) планировку здания, сооружения, транспортного средства, объекта с указа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) эвакуационных путей и вы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)наружных открытых лестниц, незадымляемых лестничных клеток и аварийные выходы, предназначенные для эвакуаци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) места размещения самого плана эвакуа-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) места размещения средств противопо-жарной защиты, спасательные и медицинские средства, обозначаемые знаками пожарной безопасности и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имволами ИМО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404640"/>
            <a:ext cx="8642160" cy="587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7.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 На объе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с массовым пребыванием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кроме жилых домов), а также на объе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с рабочими местами на этаже для 10 и более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руководитель организации обеспечивает нали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ПЛАНОВ ЭВАКУАЦИИ ЛЮДЕЙ ПРИ ПОЖАРЕ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Огнетушитель"/>
          <p:cNvPicPr/>
          <p:nvPr/>
        </p:nvPicPr>
        <p:blipFill>
          <a:blip r:embed="rId1"/>
          <a:stretch/>
        </p:blipFill>
        <p:spPr>
          <a:xfrm>
            <a:off x="395280" y="404640"/>
            <a:ext cx="2448000" cy="24480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3" name="Line 4"/>
          <p:cNvSpPr/>
          <p:nvPr/>
        </p:nvSpPr>
        <p:spPr>
          <a:xfrm>
            <a:off x="2843280" y="404640"/>
            <a:ext cx="151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843280" y="2852640"/>
            <a:ext cx="151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16200000">
            <a:off x="2599560" y="1368720"/>
            <a:ext cx="216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8 – 15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0" y="0"/>
            <a:ext cx="432108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Высота знаков без-опасности и символов на плане эвакуации должна бы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man Old Style"/>
              </a:rPr>
              <a:t>от 8 до 15 мм,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на одном плане эвакуации они должны быть выпол-нены в едином масштаб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Огнетушитель"/>
          <p:cNvPicPr/>
          <p:nvPr/>
        </p:nvPicPr>
        <p:blipFill>
          <a:blip r:embed="rId2"/>
          <a:stretch/>
        </p:blipFill>
        <p:spPr>
          <a:xfrm>
            <a:off x="395280" y="4005360"/>
            <a:ext cx="1512720" cy="151272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8" name="Text Box 9"/>
          <p:cNvSpPr/>
          <p:nvPr/>
        </p:nvSpPr>
        <p:spPr>
          <a:xfrm>
            <a:off x="1979640" y="4508640"/>
            <a:ext cx="2592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Огнет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72000" y="3860640"/>
            <a:ext cx="4392720" cy="24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Для знаков безопас-ности, символов и услов-ных графических обозна-чений должны быть даны пояснения их смыслового значения в текстовой час-ти плана эвак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95280" y="189000"/>
            <a:ext cx="8353440" cy="569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На плане этажа должны быть пока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Лестничные кл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Лифты и лифтовые хол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омещения, балк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Наружные лест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Двери лестничных клеток, лифтовых хо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Двери расположенные на путях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5280" y="189000"/>
            <a:ext cx="8353440" cy="54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Основной путь эвакуации на этаже указывается в направлении </a:t>
            </a:r>
            <a:r>
              <a:rPr b="1" lang="ru-RU" sz="2800" spc="-1" strike="noStrike">
                <a:solidFill>
                  <a:srgbClr val="00ff00"/>
                </a:solidFill>
                <a:latin typeface="Bookman Old Style"/>
              </a:rPr>
              <a:t>незадымляемых лестничных клеток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, а также лестниц, ведущих с данного этажа на 1 этаж или непосредственно наружу. Если на этаже 2 лестничные клетки равноценны по защищаемости от дыма и огня то основной путь указывается до ближайшей лес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Лестничные клетки, содержащиеся в рабочее время закрытыми, считать </a:t>
            </a:r>
            <a:r>
              <a:rPr b="1" lang="ru-RU" sz="2800" spc="-1" strike="noStrike">
                <a:solidFill>
                  <a:srgbClr val="00ff00"/>
                </a:solidFill>
                <a:latin typeface="Bookman Old Style"/>
              </a:rPr>
              <a:t>запасным эвакуационным выходом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89000"/>
            <a:ext cx="8353440" cy="43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этажных планах эвакуации в графической части должен быть указ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Bookman Old Style"/>
              </a:rPr>
              <a:t>НОМЕР ЭТАЖА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Bookman Old Style"/>
              </a:rPr>
              <a:t>В ЛЕВОМ НИЖНЕМ УГЛУ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плана эва-куации необходимо указ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именование организации – разра-ботчика плана эвак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189000"/>
            <a:ext cx="8569080" cy="631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00ffff"/>
                </a:solidFill>
                <a:latin typeface="Bookman Old Style"/>
              </a:rPr>
              <a:t>В ПРАВОМ НИЖНЕМ УГЛУ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лана эвакуации в соответствии с требованием стандарта нано-сится маркировка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 указа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наименования и (или) торгового знака из-готов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даты изготовления (год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яркости свечения в мкд/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через 10 и 60 мин. после отключения источников освещения (накач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длительность послесвечения в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ополнительно, при необходимости, мар-кировка может содер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длительность послесвечения: 1440 мин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цвет послесвечения: желто-зеленый (ЖЗ) или белый (Б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номер настояще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404640"/>
            <a:ext cx="8569080" cy="16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Пример условного обозначения маркиров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ff"/>
                </a:solidFill>
                <a:latin typeface="Bookman Old Style"/>
              </a:rPr>
              <a:t>ГОСТ Р 12.2.143-2009 180 – 20 – 1440 –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ffff"/>
                </a:solidFill>
                <a:latin typeface="Bookman Old Style"/>
              </a:rPr>
              <a:t>Ж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 rot="16200000">
            <a:off x="2412000" y="189720"/>
            <a:ext cx="287280" cy="4174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8720 h 4174920"/>
              <a:gd name="textAreaBottom" fmla="*/ 4066200 h 41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6200000">
            <a:off x="5040360" y="18810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 rot="16200000">
            <a:off x="6119640" y="1880640"/>
            <a:ext cx="142920" cy="64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 rot="16200000">
            <a:off x="7273080" y="1808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rot="16200000">
            <a:off x="8424720" y="18810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9640" y="2625840"/>
            <a:ext cx="4103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номер настояще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43280" y="5950080"/>
            <a:ext cx="2880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цвет послесв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5148360" y="2421000"/>
            <a:ext cx="0" cy="1512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6227640" y="2421000"/>
            <a:ext cx="0" cy="18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7380360" y="2421000"/>
            <a:ext cx="0" cy="503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8532720" y="2421000"/>
            <a:ext cx="0" cy="3672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2843280" y="3933720"/>
            <a:ext cx="2305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179280" y="3789360"/>
            <a:ext cx="2592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яркость свечения, спустя 10 мин. после отключения источников освещения            в мкд/м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419640" y="4005360"/>
            <a:ext cx="2592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яркость свечения, спустя 60 мин. после отключения источников освещения            в мкд/м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5940360" y="4221000"/>
            <a:ext cx="2872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300720" y="3068640"/>
            <a:ext cx="20876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измеренное или вычисленное время послесвечения до 0,3 мкд/м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Bookman Old Style"/>
              </a:rPr>
              <a:t>2  </a:t>
            </a: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в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7451640" y="6093000"/>
            <a:ext cx="1081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79280" y="96840"/>
            <a:ext cx="8785440" cy="637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Bookman Old Style"/>
              </a:rPr>
              <a:t>Текстовая ча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олжна содер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способы оповещения о возникновении чрезвычайной ситуации (пожара, авари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порядок и последовательность эвакуаци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обязанности и действия людей, в том чис-ле порядок вызова пожарных или аварийно-спа-сательных подразделений, экстренной медицинс-кой помощи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порядок аварийной остановки оборудова-ния, механизмов, отключения электропитани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порядок ручного (дублирующего) включе-ния систем (установок) пожарной и противоава-рийной авто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79280" y="0"/>
            <a:ext cx="8785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Bookman Old Style"/>
              </a:rPr>
              <a:t>Размеры планов эвакуации выбирают,                (мм) не менее:</a:t>
            </a: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492360" y="1484280"/>
            <a:ext cx="57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492360" y="3284640"/>
            <a:ext cx="646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 rot="16200000">
            <a:off x="2822040" y="21542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0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50920" y="34290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3348000" y="34290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24000" y="3429000"/>
            <a:ext cx="295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60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idn_plan"/>
          <p:cNvPicPr/>
          <p:nvPr/>
        </p:nvPicPr>
        <p:blipFill>
          <a:blip r:embed="rId1"/>
          <a:stretch/>
        </p:blipFill>
        <p:spPr>
          <a:xfrm>
            <a:off x="250920" y="4149720"/>
            <a:ext cx="2808360" cy="172728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8" name="Picture 11" descr="3 этаж_web"/>
          <p:cNvPicPr/>
          <p:nvPr/>
        </p:nvPicPr>
        <p:blipFill>
          <a:blip r:embed="rId2"/>
          <a:stretch/>
        </p:blipFill>
        <p:spPr>
          <a:xfrm>
            <a:off x="250920" y="1484280"/>
            <a:ext cx="3097080" cy="180036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9" name="Text Box 12"/>
          <p:cNvSpPr/>
          <p:nvPr/>
        </p:nvSpPr>
        <p:spPr>
          <a:xfrm>
            <a:off x="4572000" y="1341360"/>
            <a:ext cx="417672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600 х 4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для этажных и               секционных планов эваку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50920" y="602136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059280" y="602136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50920" y="6093000"/>
            <a:ext cx="280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0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3203640" y="414972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3203640" y="587700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 rot="16200000">
            <a:off x="2858400" y="4783320"/>
            <a:ext cx="172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30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4572000" y="4292640"/>
            <a:ext cx="4176720" cy="144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400 х 3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для локальных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79280" y="0"/>
            <a:ext cx="8785440" cy="225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Пути эвакуации, ведущие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эвакуационным выходам,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следует обознач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ff33"/>
                </a:solidFill>
                <a:uFillTx/>
                <a:latin typeface="Bookman Old Style"/>
              </a:rPr>
              <a:t>сплошной линией зеленого цвета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с указанием направления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692360" y="2943360"/>
            <a:ext cx="5759280" cy="485640"/>
          </a:xfrm>
          <a:prstGeom prst="rightArrow">
            <a:avLst>
              <a:gd name="adj1" fmla="val 50000"/>
              <a:gd name="adj2" fmla="val 296479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692360" y="2349360"/>
            <a:ext cx="5759280" cy="358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рис4"/>
          <p:cNvPicPr/>
          <p:nvPr/>
        </p:nvPicPr>
        <p:blipFill>
          <a:blip r:embed="rId1"/>
          <a:srcRect l="26297" t="38504" r="53670" b="51857"/>
          <a:stretch/>
        </p:blipFill>
        <p:spPr>
          <a:xfrm>
            <a:off x="3419640" y="2276640"/>
            <a:ext cx="115236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рис4"/>
          <p:cNvPicPr/>
          <p:nvPr/>
        </p:nvPicPr>
        <p:blipFill>
          <a:blip r:embed="rId2"/>
          <a:srcRect l="1239" t="38016" r="77546" b="52373"/>
          <a:stretch/>
        </p:blipFill>
        <p:spPr>
          <a:xfrm>
            <a:off x="4572000" y="2276640"/>
            <a:ext cx="1220760" cy="502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179280" y="3573360"/>
            <a:ext cx="8785440" cy="225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Пути эвакуации, ведущие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аварийным эвакуационным выходам,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следует обознач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ff33"/>
                </a:solidFill>
                <a:uFillTx/>
                <a:latin typeface="Bookman Old Style"/>
              </a:rPr>
              <a:t>штриховой линией зеленого цвета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с указанием направления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692360" y="5950080"/>
            <a:ext cx="5759280" cy="215640"/>
          </a:xfrm>
          <a:prstGeom prst="rect">
            <a:avLst/>
          </a:prstGeom>
          <a:noFill/>
          <a:ln w="381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692360" y="6372360"/>
            <a:ext cx="5759280" cy="485640"/>
          </a:xfrm>
          <a:prstGeom prst="rightArrow">
            <a:avLst>
              <a:gd name="adj1" fmla="val 50000"/>
              <a:gd name="adj2" fmla="val 296479"/>
            </a:avLst>
          </a:prstGeom>
          <a:noFill/>
          <a:ln w="381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рис4"/>
          <p:cNvPicPr/>
          <p:nvPr/>
        </p:nvPicPr>
        <p:blipFill>
          <a:blip r:embed="rId3"/>
          <a:srcRect l="26297" t="38504" r="53670" b="51857"/>
          <a:stretch/>
        </p:blipFill>
        <p:spPr>
          <a:xfrm>
            <a:off x="3419640" y="5805360"/>
            <a:ext cx="1152360" cy="5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рис4"/>
          <p:cNvPicPr/>
          <p:nvPr/>
        </p:nvPicPr>
        <p:blipFill>
          <a:blip r:embed="rId4"/>
          <a:srcRect l="1239" t="38016" r="77546" b="52373"/>
          <a:stretch/>
        </p:blipFill>
        <p:spPr>
          <a:xfrm>
            <a:off x="4572000" y="5805360"/>
            <a:ext cx="12207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404640"/>
            <a:ext cx="8209080" cy="377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Планы эвакуации следу-ет выполнять на осно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ФОТОЛЮМИНЕСЦЕНТНЫХ МАТЕРИАЛОВ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50920" y="189000"/>
            <a:ext cx="8642160" cy="621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12.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 На объе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с массовым пребыванием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руководитель организации обеспечивает нали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ИНСТРУКЦИИ О ДЕЙСТВИЯХ ПЕРСОНАЛА ПО ЭВАКУАЦИИ ЛЮДЕЙ ПРИ ПОЖАРЕ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а так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ПРОВЕДЕНИЕ НЕ РЕЖЕ 1 РАЗА В ПОЛУГОДИЕ ПРАКТИЧЕСКИХ ТРЕНИР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лиц, осуществляющих свою деятельность на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0920" y="189000"/>
            <a:ext cx="8642160" cy="633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Bookman Old Style"/>
              </a:rPr>
              <a:t>Письмо                                                                                                     Директора Департамента                                                                         надзорной деятельности МЧС России                                                               генерал-лейтенанта внутренней службы                                                          Ю.И. Дешевых                                                                                                          от 11 марта 2014 года                                                                                       № 19-1-13-9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Согласно требований п. 6.1.4. ГОСТ Р 12.4.026-2001 «Цвета сигнальные … », знаки пожарной безопасности, … </a:t>
            </a:r>
            <a:r>
              <a:rPr b="1" lang="en-US" sz="2000" spc="-1" strike="noStrike">
                <a:solidFill>
                  <a:srgbClr val="00ffff"/>
                </a:solidFill>
                <a:latin typeface="Bookman Old Style"/>
              </a:rPr>
              <a:t>должны быть выполнены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С ВНЕШНИМ ИЛИ ВНУТРЕННИМ ОСВЕЩЕНИЕМ (ПОДСВЕТКО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ОТ АВАРИЙНОГО ИСТОЧНИКА ЭЛЕКТРОСНАБ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или (и) с применением фотолюминесцентны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Таким образом, изготовление и применение планов эвакуации, может осуществляться как на бумажном носителе, так и в фотолюминесцентном исполнении, при этом вид материала для изготовления плана эвакуации определяется собственником объекта защиты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79280" y="115920"/>
            <a:ext cx="87138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Bookman Old Style"/>
              </a:rPr>
              <a:t>Фон плана эвакуации должен быть: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Bookman Old Style"/>
              </a:rPr>
              <a:t>желтовато-белым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Bookman Old Style"/>
              </a:rPr>
              <a:t>или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б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Bookman Old Style"/>
              </a:rPr>
              <a:t>- для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Bookman Old Style"/>
              </a:rPr>
              <a:t>фотолюминесцентн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3068640"/>
            <a:ext cx="8785440" cy="33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Надписи и графические изображения на плане эвакуации (кроме знаков безопасности и символов) должны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черного ц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независимо от ф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сота шрифта - не менее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5 мм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68360" y="260280"/>
            <a:ext cx="8280360" cy="422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Планы эвакуации следует вывешивать на стенах поме-щений и коридоров, на колон-н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и в строгом соответствии с местом размещения, указан-ным на самом плане эвакуа-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4" descr="http://files.stroyinf.ru/Data2/1/4293827/4293827643.files/x011.jpg"/>
          <p:cNvPicPr/>
          <p:nvPr/>
        </p:nvPicPr>
        <p:blipFill>
          <a:blip r:embed="rId1"/>
          <a:stretch/>
        </p:blipFill>
        <p:spPr>
          <a:xfrm>
            <a:off x="5508720" y="3789360"/>
            <a:ext cx="3179520" cy="2519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Рисунок 3" descr="http://files.stroyinf.ru/Data2/1/4293827/4293827643.files/x012.jpg"/>
          <p:cNvPicPr/>
          <p:nvPr/>
        </p:nvPicPr>
        <p:blipFill>
          <a:blip r:embed="rId2"/>
          <a:stretch/>
        </p:blipFill>
        <p:spPr>
          <a:xfrm>
            <a:off x="5508720" y="549360"/>
            <a:ext cx="3168720" cy="2519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90" name="Text Box 5"/>
          <p:cNvSpPr/>
          <p:nvPr/>
        </p:nvSpPr>
        <p:spPr>
          <a:xfrm>
            <a:off x="250920" y="549360"/>
            <a:ext cx="51130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есто размещения ог-нетушителя должно быть обозначено световым фото-люминесцентным экр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50920" y="3789360"/>
            <a:ext cx="5113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жарный кран по пе-риметру должен быть обо-значен фотолюминесцент-ной лентой шириной не ме-нее 2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95280" y="189000"/>
            <a:ext cx="842472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осле установки фотолюминесцентной эвакуа-ционной системы </a:t>
            </a:r>
            <a:r>
              <a:rPr b="1" lang="ru-RU" sz="2000" spc="-1" strike="noStrike">
                <a:solidFill>
                  <a:srgbClr val="00ffff"/>
                </a:solidFill>
                <a:latin typeface="Bookman Old Style"/>
              </a:rPr>
              <a:t>организация, имеющая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Bookman Old Style"/>
              </a:rPr>
              <a:t>специальное разрешение на осуществление данной дея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, монтирующая ФЭС, совместно с организацией, в которой данные ФЭС установлены, соста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«ПРОТОКОЛ ПРИЁМКИ                                     ФОТОЛЮМИНЕСЦЕНТНОЙ ЭВАКУАЦИОННОЙ СИСТЕМЫ»,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котором должны быть указ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наименование организации, ответственной за эк-сплуатацию ФЭ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наименование организации, изготовляющей и монтирующей ФЭ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номер и дата проекта размещения ФЭ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наименование используемых фотолюминесцент-ных матери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документы, подтверждающие соответствие мате-риала настоящему стандар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- акт сдачи приемки эталонных (контрольных) об-разцов фотолюминесцентны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24000" y="115920"/>
            <a:ext cx="8496000" cy="631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егламентные работы по техническому об-служиванию (далее - ТО) и планово-предупре-дительному ремонту (далее - ППР) должны осу-ществляться в соответстви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ГОДОВЫМ ПЛАНОМ-ГРАФИКОМ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яемым с учетом технической докумен-тации заводов-изготовителей и со сроком прове-дения ремонтны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ТО, ППР должны выполняться организаци-ей, име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ПЕЦИАЛЬНОЕ РАЗРЕШЕНИЕ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осуществление д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50920" y="66600"/>
            <a:ext cx="8642160" cy="646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ФЭС следует визуально осматривать и чистить от пыли и загрязнений </a:t>
            </a:r>
            <a:r>
              <a:rPr b="1" lang="ru-RU" sz="2200" spc="-1" strike="noStrike">
                <a:solidFill>
                  <a:srgbClr val="00ffff"/>
                </a:solidFill>
                <a:latin typeface="Bookman Old Style"/>
              </a:rPr>
              <a:t>не реже одного раза в месяц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(загрязненные участки промывать водным раство-ром неабразивных моющих средст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Яркость свечения следует проверять, используя для сравнения эталонный образец, освещающие исто-чники проверять на предмет их рабочего состо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Результаты осмотра элементов ФЭС заносятся в </a:t>
            </a:r>
            <a:r>
              <a:rPr b="1" lang="ru-RU" sz="2200" spc="-1" strike="noStrike">
                <a:solidFill>
                  <a:srgbClr val="00ffff"/>
                </a:solidFill>
                <a:latin typeface="Bookman Old Style"/>
              </a:rPr>
              <a:t>«Рабочий журнал»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, в который должны быть включе-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дата проведения осмотра и контроля характе-ристик элементов ФЭ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результаты визуального контроля яркости эле-ментов ФЭ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перечень замечаний, выявленных при осмотре ФЭ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- перечень мероприятий по устранению выявле-нных замечаний со сроками и отметкой выпол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95280" y="260280"/>
            <a:ext cx="83534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онтроль качества функционирования ФЭС проводит организация, име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ПЕЦИАЛЬНОЕ РАЗРЕШЕНИЕ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осуществление дан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ледующие календарные с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ffff"/>
                </a:solidFill>
                <a:latin typeface="Bookman Old Style"/>
              </a:rPr>
              <a:t>еженедельно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- на потенциально опасных объектах, в том числе потенциально опасных морских (речных) объектах, особо опасных по-мещениях, а также на транспортных средст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ffff"/>
                </a:solidFill>
                <a:latin typeface="Bookman Old Style"/>
              </a:rPr>
              <a:t>ежемесячно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- в остальных случ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2268360" y="2276640"/>
            <a:ext cx="460872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ПРИМЕРЫ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ОФОРМЛЕНИЯ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ПЛАНОВ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ЭВАКУАЦИИ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08000" y="115920"/>
            <a:ext cx="8856720" cy="6597720"/>
          </a:xfrm>
          <a:prstGeom prst="rect">
            <a:avLst/>
          </a:prstGeom>
          <a:solidFill>
            <a:srgbClr val="ccff99"/>
          </a:solidFill>
          <a:ln w="38160">
            <a:solidFill>
              <a:srgbClr val="cc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411280" y="260280"/>
            <a:ext cx="432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ЛАН ЭВАКУАЦИИ                                      здание администрации АОЗТ «Червоно Дышло» </a:t>
            </a:r>
            <a:r>
              <a:rPr b="1" lang="ru-RU" sz="800" spc="-1" strike="noStrike">
                <a:solidFill>
                  <a:srgbClr val="000000"/>
                </a:solidFill>
                <a:latin typeface="Bookman Old Style"/>
              </a:rPr>
              <a:t>(ул. Сутулого, д.17, пгт Кал-Ярв, Чухарская обл.)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10 эт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020000" y="260280"/>
            <a:ext cx="187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УТВЕРЖДАЮ        Генеральный директор    АОЗТ «Червоно Дышло»        _____________Су Че Хво «__»_____20__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13"/>
          <p:cNvSpPr/>
          <p:nvPr/>
        </p:nvSpPr>
        <p:spPr>
          <a:xfrm>
            <a:off x="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5"/>
          <p:cNvSpPr/>
          <p:nvPr/>
        </p:nvSpPr>
        <p:spPr>
          <a:xfrm>
            <a:off x="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1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1"/>
          <p:cNvSpPr/>
          <p:nvPr/>
        </p:nvSpPr>
        <p:spPr>
          <a:xfrm>
            <a:off x="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23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2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3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42"/>
          <p:cNvSpPr/>
          <p:nvPr/>
        </p:nvSpPr>
        <p:spPr>
          <a:xfrm>
            <a:off x="108000" y="6453360"/>
            <a:ext cx="36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Bookman Old Style"/>
              </a:rPr>
              <a:t>Разработчик - «СтройКорпорация «ТИТАНИК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43"/>
          <p:cNvSpPr/>
          <p:nvPr/>
        </p:nvSpPr>
        <p:spPr>
          <a:xfrm>
            <a:off x="5364000" y="6453360"/>
            <a:ext cx="36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Bookman Old Style"/>
              </a:rPr>
              <a:t>ГОСТ Р 12.2.143-2009 180-20-1440-Ж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17"/>
          <p:cNvSpPr/>
          <p:nvPr/>
        </p:nvSpPr>
        <p:spPr>
          <a:xfrm>
            <a:off x="611280" y="450864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22" descr=""/>
          <p:cNvPicPr/>
          <p:nvPr/>
        </p:nvPicPr>
        <p:blipFill>
          <a:blip r:embed="rId1"/>
          <a:srcRect l="3364" t="0" r="66079" b="5557"/>
          <a:stretch/>
        </p:blipFill>
        <p:spPr>
          <a:xfrm>
            <a:off x="250920" y="4941720"/>
            <a:ext cx="2233440" cy="1513080"/>
          </a:xfrm>
          <a:prstGeom prst="rect">
            <a:avLst/>
          </a:prstGeom>
          <a:ln w="0">
            <a:noFill/>
          </a:ln>
        </p:spPr>
      </p:pic>
      <p:sp>
        <p:nvSpPr>
          <p:cNvPr id="218" name="Line 926"/>
          <p:cNvSpPr/>
          <p:nvPr/>
        </p:nvSpPr>
        <p:spPr>
          <a:xfrm>
            <a:off x="250920" y="5157720"/>
            <a:ext cx="2233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28"/>
          <p:cNvSpPr/>
          <p:nvPr/>
        </p:nvSpPr>
        <p:spPr>
          <a:xfrm flipV="1">
            <a:off x="250920" y="4941720"/>
            <a:ext cx="0" cy="13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29"/>
          <p:cNvSpPr/>
          <p:nvPr/>
        </p:nvSpPr>
        <p:spPr>
          <a:xfrm flipV="1">
            <a:off x="2484360" y="494136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30" descr=""/>
          <p:cNvPicPr/>
          <p:nvPr/>
        </p:nvPicPr>
        <p:blipFill>
          <a:blip r:embed="rId2"/>
          <a:srcRect l="39788" t="0" r="16864" b="5557"/>
          <a:stretch/>
        </p:blipFill>
        <p:spPr>
          <a:xfrm>
            <a:off x="2916360" y="4941720"/>
            <a:ext cx="3168360" cy="1513080"/>
          </a:xfrm>
          <a:prstGeom prst="rect">
            <a:avLst/>
          </a:prstGeom>
          <a:ln w="0">
            <a:noFill/>
          </a:ln>
        </p:spPr>
      </p:pic>
      <p:sp>
        <p:nvSpPr>
          <p:cNvPr id="222" name="Line 931"/>
          <p:cNvSpPr/>
          <p:nvPr/>
        </p:nvSpPr>
        <p:spPr>
          <a:xfrm flipV="1">
            <a:off x="2916360" y="494136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32"/>
          <p:cNvSpPr/>
          <p:nvPr/>
        </p:nvSpPr>
        <p:spPr>
          <a:xfrm flipV="1">
            <a:off x="3203640" y="508464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33"/>
          <p:cNvSpPr/>
          <p:nvPr/>
        </p:nvSpPr>
        <p:spPr>
          <a:xfrm flipH="1">
            <a:off x="2916000" y="508464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34"/>
          <p:cNvSpPr/>
          <p:nvPr/>
        </p:nvSpPr>
        <p:spPr>
          <a:xfrm flipV="1">
            <a:off x="6084720" y="494136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35"/>
          <p:cNvSpPr/>
          <p:nvPr/>
        </p:nvSpPr>
        <p:spPr>
          <a:xfrm flipV="1">
            <a:off x="4500720" y="508464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36"/>
          <p:cNvSpPr/>
          <p:nvPr/>
        </p:nvSpPr>
        <p:spPr>
          <a:xfrm flipV="1">
            <a:off x="4932360" y="508464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37"/>
          <p:cNvSpPr/>
          <p:nvPr/>
        </p:nvSpPr>
        <p:spPr>
          <a:xfrm flipH="1">
            <a:off x="2916000" y="616572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38"/>
          <p:cNvSpPr/>
          <p:nvPr/>
        </p:nvSpPr>
        <p:spPr>
          <a:xfrm flipH="1">
            <a:off x="2916000" y="595008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39"/>
          <p:cNvSpPr/>
          <p:nvPr/>
        </p:nvSpPr>
        <p:spPr>
          <a:xfrm flipH="1">
            <a:off x="2916000" y="573408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40"/>
          <p:cNvSpPr/>
          <p:nvPr/>
        </p:nvSpPr>
        <p:spPr>
          <a:xfrm flipH="1">
            <a:off x="2916000" y="551664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41"/>
          <p:cNvSpPr/>
          <p:nvPr/>
        </p:nvSpPr>
        <p:spPr>
          <a:xfrm flipH="1">
            <a:off x="2916000" y="5300640"/>
            <a:ext cx="31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43"/>
          <p:cNvSpPr/>
          <p:nvPr/>
        </p:nvSpPr>
        <p:spPr>
          <a:xfrm flipV="1">
            <a:off x="1042920" y="5157360"/>
            <a:ext cx="0" cy="11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48"/>
          <p:cNvSpPr/>
          <p:nvPr/>
        </p:nvSpPr>
        <p:spPr>
          <a:xfrm>
            <a:off x="2843280" y="1484280"/>
            <a:ext cx="91440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50"/>
          <p:cNvSpPr/>
          <p:nvPr/>
        </p:nvSpPr>
        <p:spPr>
          <a:xfrm>
            <a:off x="611280" y="1484280"/>
            <a:ext cx="2232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51"/>
          <p:cNvSpPr/>
          <p:nvPr/>
        </p:nvSpPr>
        <p:spPr>
          <a:xfrm>
            <a:off x="3708360" y="1484280"/>
            <a:ext cx="1800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52"/>
          <p:cNvSpPr/>
          <p:nvPr/>
        </p:nvSpPr>
        <p:spPr>
          <a:xfrm>
            <a:off x="6372360" y="1484280"/>
            <a:ext cx="2160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53"/>
          <p:cNvSpPr/>
          <p:nvPr/>
        </p:nvSpPr>
        <p:spPr>
          <a:xfrm>
            <a:off x="5508720" y="1484280"/>
            <a:ext cx="91440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54"/>
          <p:cNvSpPr/>
          <p:nvPr/>
        </p:nvSpPr>
        <p:spPr>
          <a:xfrm rot="16200000">
            <a:off x="35640" y="2059560"/>
            <a:ext cx="1224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55"/>
          <p:cNvSpPr/>
          <p:nvPr/>
        </p:nvSpPr>
        <p:spPr>
          <a:xfrm rot="16200000">
            <a:off x="35640" y="3859920"/>
            <a:ext cx="1224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56"/>
          <p:cNvSpPr/>
          <p:nvPr/>
        </p:nvSpPr>
        <p:spPr>
          <a:xfrm rot="16200000">
            <a:off x="7884000" y="2059560"/>
            <a:ext cx="1224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57"/>
          <p:cNvSpPr/>
          <p:nvPr/>
        </p:nvSpPr>
        <p:spPr>
          <a:xfrm rot="16200000">
            <a:off x="7884000" y="3859920"/>
            <a:ext cx="1224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58"/>
          <p:cNvSpPr/>
          <p:nvPr/>
        </p:nvSpPr>
        <p:spPr>
          <a:xfrm rot="16200000">
            <a:off x="4103640" y="1952640"/>
            <a:ext cx="1008000" cy="7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59"/>
          <p:cNvSpPr/>
          <p:nvPr/>
        </p:nvSpPr>
        <p:spPr>
          <a:xfrm>
            <a:off x="3708360" y="2421000"/>
            <a:ext cx="1800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60"/>
          <p:cNvSpPr/>
          <p:nvPr/>
        </p:nvSpPr>
        <p:spPr>
          <a:xfrm>
            <a:off x="611280" y="2421000"/>
            <a:ext cx="223200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61"/>
          <p:cNvSpPr/>
          <p:nvPr/>
        </p:nvSpPr>
        <p:spPr>
          <a:xfrm>
            <a:off x="6372360" y="2421000"/>
            <a:ext cx="2160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62"/>
          <p:cNvSpPr/>
          <p:nvPr/>
        </p:nvSpPr>
        <p:spPr>
          <a:xfrm>
            <a:off x="5292720" y="4437000"/>
            <a:ext cx="136692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4"/>
          <p:cNvSpPr/>
          <p:nvPr/>
        </p:nvSpPr>
        <p:spPr>
          <a:xfrm rot="16200000">
            <a:off x="5182920" y="3968280"/>
            <a:ext cx="1008360" cy="7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65"/>
          <p:cNvSpPr/>
          <p:nvPr/>
        </p:nvSpPr>
        <p:spPr>
          <a:xfrm>
            <a:off x="2484360" y="4437000"/>
            <a:ext cx="136692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66"/>
          <p:cNvSpPr/>
          <p:nvPr/>
        </p:nvSpPr>
        <p:spPr>
          <a:xfrm rot="16200000">
            <a:off x="3024000" y="3968280"/>
            <a:ext cx="100836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67"/>
          <p:cNvSpPr/>
          <p:nvPr/>
        </p:nvSpPr>
        <p:spPr>
          <a:xfrm>
            <a:off x="2411280" y="3500280"/>
            <a:ext cx="115272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68"/>
          <p:cNvSpPr/>
          <p:nvPr/>
        </p:nvSpPr>
        <p:spPr>
          <a:xfrm>
            <a:off x="611280" y="3500280"/>
            <a:ext cx="1152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69"/>
          <p:cNvSpPr/>
          <p:nvPr/>
        </p:nvSpPr>
        <p:spPr>
          <a:xfrm>
            <a:off x="5651640" y="3500280"/>
            <a:ext cx="1152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70"/>
          <p:cNvSpPr/>
          <p:nvPr/>
        </p:nvSpPr>
        <p:spPr>
          <a:xfrm>
            <a:off x="7380360" y="3500280"/>
            <a:ext cx="115236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71"/>
          <p:cNvSpPr/>
          <p:nvPr/>
        </p:nvSpPr>
        <p:spPr>
          <a:xfrm>
            <a:off x="1619280" y="4437000"/>
            <a:ext cx="91440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72"/>
          <p:cNvSpPr/>
          <p:nvPr/>
        </p:nvSpPr>
        <p:spPr>
          <a:xfrm>
            <a:off x="6659640" y="4437000"/>
            <a:ext cx="91440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73"/>
          <p:cNvSpPr/>
          <p:nvPr/>
        </p:nvSpPr>
        <p:spPr>
          <a:xfrm>
            <a:off x="684360" y="4437000"/>
            <a:ext cx="100800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74"/>
          <p:cNvSpPr/>
          <p:nvPr/>
        </p:nvSpPr>
        <p:spPr>
          <a:xfrm>
            <a:off x="7451640" y="4437000"/>
            <a:ext cx="107964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75"/>
          <p:cNvSpPr/>
          <p:nvPr/>
        </p:nvSpPr>
        <p:spPr>
          <a:xfrm>
            <a:off x="6227640" y="3284640"/>
            <a:ext cx="79236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78"/>
          <p:cNvSpPr/>
          <p:nvPr/>
        </p:nvSpPr>
        <p:spPr>
          <a:xfrm>
            <a:off x="2268360" y="3284640"/>
            <a:ext cx="7909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79"/>
          <p:cNvSpPr/>
          <p:nvPr/>
        </p:nvSpPr>
        <p:spPr>
          <a:xfrm>
            <a:off x="3492360" y="2852640"/>
            <a:ext cx="2232000" cy="142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80"/>
          <p:cNvSpPr/>
          <p:nvPr/>
        </p:nvSpPr>
        <p:spPr>
          <a:xfrm rot="16200000">
            <a:off x="1908360" y="3571560"/>
            <a:ext cx="7189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81"/>
          <p:cNvSpPr/>
          <p:nvPr/>
        </p:nvSpPr>
        <p:spPr>
          <a:xfrm rot="16200000">
            <a:off x="6589800" y="3571560"/>
            <a:ext cx="7189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82"/>
          <p:cNvSpPr/>
          <p:nvPr/>
        </p:nvSpPr>
        <p:spPr>
          <a:xfrm rot="16200000">
            <a:off x="3205080" y="2202840"/>
            <a:ext cx="718920" cy="144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83"/>
          <p:cNvSpPr/>
          <p:nvPr/>
        </p:nvSpPr>
        <p:spPr>
          <a:xfrm rot="16200000">
            <a:off x="5292720" y="2203200"/>
            <a:ext cx="7189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84"/>
          <p:cNvSpPr/>
          <p:nvPr/>
        </p:nvSpPr>
        <p:spPr>
          <a:xfrm rot="16200000">
            <a:off x="3996360" y="3572640"/>
            <a:ext cx="12952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85" descr="рис5"/>
          <p:cNvPicPr/>
          <p:nvPr/>
        </p:nvPicPr>
        <p:blipFill>
          <a:blip r:embed="rId3"/>
          <a:srcRect l="32538" t="55376" r="11181" b="2150"/>
          <a:stretch/>
        </p:blipFill>
        <p:spPr>
          <a:xfrm>
            <a:off x="4572000" y="3573360"/>
            <a:ext cx="162000" cy="490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986"/>
          <p:cNvSpPr/>
          <p:nvPr/>
        </p:nvSpPr>
        <p:spPr>
          <a:xfrm>
            <a:off x="3492360" y="3284640"/>
            <a:ext cx="230364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87" descr="рис5"/>
          <p:cNvPicPr/>
          <p:nvPr/>
        </p:nvPicPr>
        <p:blipFill>
          <a:blip r:embed="rId4"/>
          <a:srcRect l="55376" t="11181" r="2150" b="32538"/>
          <a:stretch/>
        </p:blipFill>
        <p:spPr>
          <a:xfrm>
            <a:off x="3059280" y="3284640"/>
            <a:ext cx="490320" cy="16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88" descr="рис5"/>
          <p:cNvPicPr/>
          <p:nvPr/>
        </p:nvPicPr>
        <p:blipFill>
          <a:blip r:embed="rId5"/>
          <a:srcRect l="2150" t="11181" r="55376" b="32538"/>
          <a:stretch/>
        </p:blipFill>
        <p:spPr>
          <a:xfrm>
            <a:off x="5796000" y="3284640"/>
            <a:ext cx="490680" cy="162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991"/>
          <p:cNvSpPr/>
          <p:nvPr/>
        </p:nvSpPr>
        <p:spPr>
          <a:xfrm rot="16200000">
            <a:off x="2915280" y="1988280"/>
            <a:ext cx="2887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93"/>
          <p:cNvSpPr/>
          <p:nvPr/>
        </p:nvSpPr>
        <p:spPr>
          <a:xfrm rot="16200000">
            <a:off x="2915280" y="256428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94"/>
          <p:cNvSpPr/>
          <p:nvPr/>
        </p:nvSpPr>
        <p:spPr>
          <a:xfrm rot="16200000">
            <a:off x="6012720" y="1988280"/>
            <a:ext cx="288720" cy="144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95"/>
          <p:cNvSpPr/>
          <p:nvPr/>
        </p:nvSpPr>
        <p:spPr>
          <a:xfrm rot="16200000">
            <a:off x="6012360" y="2563920"/>
            <a:ext cx="289080" cy="144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96"/>
          <p:cNvSpPr/>
          <p:nvPr/>
        </p:nvSpPr>
        <p:spPr>
          <a:xfrm rot="16200000">
            <a:off x="7092000" y="378828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97"/>
          <p:cNvSpPr/>
          <p:nvPr/>
        </p:nvSpPr>
        <p:spPr>
          <a:xfrm rot="16200000">
            <a:off x="7092000" y="328500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98"/>
          <p:cNvSpPr/>
          <p:nvPr/>
        </p:nvSpPr>
        <p:spPr>
          <a:xfrm rot="16200000">
            <a:off x="1762920" y="378828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99"/>
          <p:cNvSpPr/>
          <p:nvPr/>
        </p:nvSpPr>
        <p:spPr>
          <a:xfrm rot="16200000">
            <a:off x="1762920" y="328500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00"/>
          <p:cNvSpPr/>
          <p:nvPr/>
        </p:nvSpPr>
        <p:spPr>
          <a:xfrm rot="10800000">
            <a:off x="1186920" y="292392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03"/>
          <p:cNvSpPr/>
          <p:nvPr/>
        </p:nvSpPr>
        <p:spPr>
          <a:xfrm rot="10800000">
            <a:off x="2339640" y="292392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04"/>
          <p:cNvSpPr/>
          <p:nvPr/>
        </p:nvSpPr>
        <p:spPr>
          <a:xfrm rot="10800000">
            <a:off x="2843280" y="2923920"/>
            <a:ext cx="2887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005" descr="рис5"/>
          <p:cNvPicPr/>
          <p:nvPr/>
        </p:nvPicPr>
        <p:blipFill>
          <a:blip r:embed="rId6"/>
          <a:srcRect l="2150" t="11181" r="55376" b="32538"/>
          <a:stretch/>
        </p:blipFill>
        <p:spPr>
          <a:xfrm>
            <a:off x="1619280" y="2924280"/>
            <a:ext cx="490680" cy="162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06"/>
          <p:cNvSpPr/>
          <p:nvPr/>
        </p:nvSpPr>
        <p:spPr>
          <a:xfrm rot="10800000">
            <a:off x="6084360" y="292392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07"/>
          <p:cNvSpPr/>
          <p:nvPr/>
        </p:nvSpPr>
        <p:spPr>
          <a:xfrm rot="10800000">
            <a:off x="6659640" y="2923920"/>
            <a:ext cx="28872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008" descr="рис5"/>
          <p:cNvPicPr/>
          <p:nvPr/>
        </p:nvPicPr>
        <p:blipFill>
          <a:blip r:embed="rId7"/>
          <a:srcRect l="55376" t="11181" r="2150" b="32538"/>
          <a:stretch/>
        </p:blipFill>
        <p:spPr>
          <a:xfrm>
            <a:off x="7020000" y="2924280"/>
            <a:ext cx="490320" cy="162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009"/>
          <p:cNvSpPr/>
          <p:nvPr/>
        </p:nvSpPr>
        <p:spPr>
          <a:xfrm rot="10800000">
            <a:off x="7667280" y="2923920"/>
            <a:ext cx="289080" cy="144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10" descr="рис5"/>
          <p:cNvPicPr/>
          <p:nvPr/>
        </p:nvPicPr>
        <p:blipFill>
          <a:blip r:embed="rId8"/>
          <a:srcRect l="55360" t="11155" r="26195" b="32503"/>
          <a:stretch/>
        </p:blipFill>
        <p:spPr>
          <a:xfrm>
            <a:off x="4356000" y="4437000"/>
            <a:ext cx="503280" cy="3603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11"/>
          <p:cNvSpPr/>
          <p:nvPr/>
        </p:nvSpPr>
        <p:spPr>
          <a:xfrm>
            <a:off x="250920" y="2708280"/>
            <a:ext cx="288720" cy="6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012"/>
          <p:cNvSpPr txBox="1"/>
          <p:nvPr/>
        </p:nvSpPr>
        <p:spPr>
          <a:xfrm rot="16200000">
            <a:off x="168120" y="2936880"/>
            <a:ext cx="47304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АВАРИЙНЫЙ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ВЫХОД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Rectangle 1013"/>
          <p:cNvSpPr/>
          <p:nvPr/>
        </p:nvSpPr>
        <p:spPr>
          <a:xfrm>
            <a:off x="8604360" y="2708280"/>
            <a:ext cx="288720" cy="6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014"/>
          <p:cNvSpPr txBox="1"/>
          <p:nvPr/>
        </p:nvSpPr>
        <p:spPr>
          <a:xfrm rot="5400000">
            <a:off x="8520120" y="2936880"/>
            <a:ext cx="47304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АВАРИЙНЫЙ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ВЫХОД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</p:txBody>
      </p:sp>
      <p:pic>
        <p:nvPicPr>
          <p:cNvPr id="292" name="Picture 1015" descr="Пожарный кран"/>
          <p:cNvPicPr/>
          <p:nvPr/>
        </p:nvPicPr>
        <p:blipFill>
          <a:blip r:embed="rId9"/>
          <a:stretch/>
        </p:blipFill>
        <p:spPr>
          <a:xfrm>
            <a:off x="755640" y="321300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16" descr="Огнетушитель"/>
          <p:cNvPicPr/>
          <p:nvPr/>
        </p:nvPicPr>
        <p:blipFill>
          <a:blip r:embed="rId10"/>
          <a:stretch/>
        </p:blipFill>
        <p:spPr>
          <a:xfrm>
            <a:off x="755640" y="162864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17" descr="Огнетушитель"/>
          <p:cNvPicPr/>
          <p:nvPr/>
        </p:nvPicPr>
        <p:blipFill>
          <a:blip r:embed="rId11"/>
          <a:stretch/>
        </p:blipFill>
        <p:spPr>
          <a:xfrm>
            <a:off x="3132000" y="364500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18" descr="Огнетушитель"/>
          <p:cNvPicPr/>
          <p:nvPr/>
        </p:nvPicPr>
        <p:blipFill>
          <a:blip r:embed="rId12"/>
          <a:stretch/>
        </p:blipFill>
        <p:spPr>
          <a:xfrm>
            <a:off x="5796000" y="3645000"/>
            <a:ext cx="253800" cy="253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19" descr="Огнетушитель"/>
          <p:cNvPicPr/>
          <p:nvPr/>
        </p:nvPicPr>
        <p:blipFill>
          <a:blip r:embed="rId13"/>
          <a:stretch/>
        </p:blipFill>
        <p:spPr>
          <a:xfrm>
            <a:off x="8101080" y="1628640"/>
            <a:ext cx="253800" cy="254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20" descr="Телефон для использования при пожаре (в том числе телефон прямой связи с пожарной охраной)"/>
          <p:cNvPicPr/>
          <p:nvPr/>
        </p:nvPicPr>
        <p:blipFill>
          <a:blip r:embed="rId14"/>
          <a:stretch/>
        </p:blipFill>
        <p:spPr>
          <a:xfrm>
            <a:off x="5292720" y="407664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1" descr="Телефон для использования при пожаре (в том числе телефон прямой связи с пожарной охраной)"/>
          <p:cNvPicPr/>
          <p:nvPr/>
        </p:nvPicPr>
        <p:blipFill>
          <a:blip r:embed="rId15"/>
          <a:stretch/>
        </p:blipFill>
        <p:spPr>
          <a:xfrm>
            <a:off x="4211640" y="162864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22" descr="Кнопка включения установок (систем) пожарной автоматики"/>
          <p:cNvPicPr/>
          <p:nvPr/>
        </p:nvPicPr>
        <p:blipFill>
          <a:blip r:embed="rId16"/>
          <a:stretch/>
        </p:blipFill>
        <p:spPr>
          <a:xfrm>
            <a:off x="1692360" y="2565360"/>
            <a:ext cx="268200" cy="268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23" descr="Звуковой оповещатель пожарной тревоги"/>
          <p:cNvPicPr/>
          <p:nvPr/>
        </p:nvPicPr>
        <p:blipFill>
          <a:blip r:embed="rId17"/>
          <a:stretch/>
        </p:blipFill>
        <p:spPr>
          <a:xfrm>
            <a:off x="8028000" y="2565360"/>
            <a:ext cx="279360" cy="28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24" descr="Аптечка первой медицинской помощи"/>
          <p:cNvPicPr/>
          <p:nvPr/>
        </p:nvPicPr>
        <p:blipFill>
          <a:blip r:embed="rId18"/>
          <a:stretch/>
        </p:blipFill>
        <p:spPr>
          <a:xfrm>
            <a:off x="8101080" y="4076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25" descr="рис5"/>
          <p:cNvPicPr/>
          <p:nvPr/>
        </p:nvPicPr>
        <p:blipFill>
          <a:blip r:embed="rId19"/>
          <a:srcRect l="32538" t="55376" r="11181" b="2150"/>
          <a:stretch/>
        </p:blipFill>
        <p:spPr>
          <a:xfrm>
            <a:off x="3492360" y="2349360"/>
            <a:ext cx="162000" cy="490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26" descr="рис5"/>
          <p:cNvPicPr/>
          <p:nvPr/>
        </p:nvPicPr>
        <p:blipFill>
          <a:blip r:embed="rId20"/>
          <a:srcRect l="32538" t="55376" r="11181" b="2150"/>
          <a:stretch/>
        </p:blipFill>
        <p:spPr>
          <a:xfrm>
            <a:off x="5580000" y="2349360"/>
            <a:ext cx="162000" cy="490680"/>
          </a:xfrm>
          <a:prstGeom prst="rect">
            <a:avLst/>
          </a:prstGeom>
          <a:ln w="0">
            <a:noFill/>
          </a:ln>
        </p:spPr>
      </p:pic>
      <p:sp>
        <p:nvSpPr>
          <p:cNvPr id="304" name="Oval 1027"/>
          <p:cNvSpPr/>
          <p:nvPr/>
        </p:nvSpPr>
        <p:spPr>
          <a:xfrm>
            <a:off x="4500720" y="2565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29"/>
          <p:cNvSpPr/>
          <p:nvPr/>
        </p:nvSpPr>
        <p:spPr>
          <a:xfrm>
            <a:off x="1042920" y="35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30"/>
          <p:cNvSpPr/>
          <p:nvPr/>
        </p:nvSpPr>
        <p:spPr>
          <a:xfrm>
            <a:off x="684360" y="3716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31"/>
          <p:cNvSpPr/>
          <p:nvPr/>
        </p:nvSpPr>
        <p:spPr>
          <a:xfrm>
            <a:off x="684360" y="38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32"/>
          <p:cNvSpPr/>
          <p:nvPr/>
        </p:nvSpPr>
        <p:spPr>
          <a:xfrm>
            <a:off x="684360" y="4005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33"/>
          <p:cNvSpPr/>
          <p:nvPr/>
        </p:nvSpPr>
        <p:spPr>
          <a:xfrm>
            <a:off x="684360" y="4149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34"/>
          <p:cNvSpPr/>
          <p:nvPr/>
        </p:nvSpPr>
        <p:spPr>
          <a:xfrm>
            <a:off x="684360" y="4292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рисВ4"/>
          <p:cNvPicPr/>
          <p:nvPr/>
        </p:nvPicPr>
        <p:blipFill>
          <a:blip r:embed="rId21"/>
          <a:srcRect l="1882" t="50675" r="2068" b="569"/>
          <a:stretch/>
        </p:blipFill>
        <p:spPr>
          <a:xfrm>
            <a:off x="6643800" y="4857840"/>
            <a:ext cx="1857240" cy="1571400"/>
          </a:xfrm>
          <a:prstGeom prst="rect">
            <a:avLst/>
          </a:prstGeom>
          <a:ln w="255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79360"/>
            <a:ext cx="8785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826920" y="260280"/>
            <a:ext cx="74106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ookman Old Style"/>
              </a:rPr>
              <a:t>НАЦИОНАЛЬНЫЙ  СТАНДАРТ  РОССИЙСКОЙ  ФЕДЕР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1835280" y="1197000"/>
            <a:ext cx="5457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ГОСТ Р 12.2.143-2009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1619280" y="2276640"/>
            <a:ext cx="590544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Система стандартов безопасности труд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826920" y="2924280"/>
            <a:ext cx="7561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СИСТЕМ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ФОТОЛЮМИНЕСЦЕНТНЫЕ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ЭВАКУАЦИОННЫ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2556000" y="5084640"/>
            <a:ext cx="439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Требования и методы контрол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2771640" y="6308640"/>
            <a:ext cx="3600720" cy="2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ookman Old Style"/>
              </a:rPr>
              <a:t>Дата введения - 2010-07-0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рисВ1"/>
          <p:cNvPicPr/>
          <p:nvPr/>
        </p:nvPicPr>
        <p:blipFill>
          <a:blip r:embed="rId1"/>
          <a:srcRect l="821" t="1201" r="1153" b="1226"/>
          <a:stretch/>
        </p:blipFill>
        <p:spPr>
          <a:xfrm>
            <a:off x="2550960" y="260280"/>
            <a:ext cx="4040280" cy="561672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4" name="Text Box 4"/>
          <p:cNvSpPr/>
          <p:nvPr/>
        </p:nvSpPr>
        <p:spPr>
          <a:xfrm>
            <a:off x="2448000" y="6021360"/>
            <a:ext cx="424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Этажный план эвакуации (фотолюминесцент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рисВ2"/>
          <p:cNvPicPr/>
          <p:nvPr/>
        </p:nvPicPr>
        <p:blipFill>
          <a:blip r:embed="rId1"/>
          <a:srcRect l="2223" t="1271" r="1379" b="1438"/>
          <a:stretch/>
        </p:blipFill>
        <p:spPr>
          <a:xfrm>
            <a:off x="682560" y="260280"/>
            <a:ext cx="7777080" cy="558792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7" name="Text Box 4"/>
          <p:cNvSpPr/>
          <p:nvPr/>
        </p:nvSpPr>
        <p:spPr>
          <a:xfrm>
            <a:off x="1871640" y="6035760"/>
            <a:ext cx="540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Секционный план эвакуации (фотолюминесцент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рисВ3"/>
          <p:cNvPicPr/>
          <p:nvPr/>
        </p:nvPicPr>
        <p:blipFill>
          <a:blip r:embed="rId1"/>
          <a:srcRect l="2452" t="2523" r="1565" b="1940"/>
          <a:stretch/>
        </p:blipFill>
        <p:spPr>
          <a:xfrm>
            <a:off x="755640" y="333360"/>
            <a:ext cx="7704000" cy="547200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Text Box 4"/>
          <p:cNvSpPr/>
          <p:nvPr/>
        </p:nvSpPr>
        <p:spPr>
          <a:xfrm>
            <a:off x="684360" y="602136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Локальный план эвакуации для гостиничных номеров (несветящий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рисВ4"/>
          <p:cNvPicPr/>
          <p:nvPr/>
        </p:nvPicPr>
        <p:blipFill>
          <a:blip r:embed="rId1"/>
          <a:srcRect l="1873" t="50676" r="2081" b="569"/>
          <a:stretch/>
        </p:blipFill>
        <p:spPr>
          <a:xfrm>
            <a:off x="468360" y="692280"/>
            <a:ext cx="3672000" cy="367164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323" name="Picture 4" descr="рисВ4"/>
          <p:cNvPicPr/>
          <p:nvPr/>
        </p:nvPicPr>
        <p:blipFill>
          <a:blip r:embed="rId2"/>
          <a:srcRect l="1911" t="970" r="2031" b="50275"/>
          <a:stretch/>
        </p:blipFill>
        <p:spPr>
          <a:xfrm>
            <a:off x="5003640" y="692280"/>
            <a:ext cx="3745080" cy="367164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4" name="Text Box 5"/>
          <p:cNvSpPr/>
          <p:nvPr/>
        </p:nvSpPr>
        <p:spPr>
          <a:xfrm>
            <a:off x="539640" y="5013360"/>
            <a:ext cx="806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Пример выполнения текстовой части плана эвак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3 этаж_web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План эвакуации школы при пожаре"/>
          <p:cNvPicPr/>
          <p:nvPr/>
        </p:nvPicPr>
        <p:blipFill>
          <a:blip r:embed="rId1"/>
          <a:srcRect l="6870" t="5323" r="0" b="0"/>
          <a:stretch/>
        </p:blipFill>
        <p:spPr>
          <a:xfrm>
            <a:off x="287280" y="258840"/>
            <a:ext cx="8569440" cy="6338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idn_plan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759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189000"/>
            <a:ext cx="8785440" cy="667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Ростехрегулирования от 23.07.2009 N 260-ст "Об утверждении национального стандарт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тветствии с Федеральным законом от 27 декабря 2002 г. N 184-ФЗ "О техническом регулировании" приказыва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Утвердить для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обровольного применени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ый стандарт Российской Федерации ГОСТ Р 12.2.143-2009 "Система стандартов безопасности труда. Системы фотолюминесцентные эвакуационные. Требования и методы контроля" с датой введения в действие 1 июля 2010 г. взамен ГОСТ Р 12.2.143-2002 "Система стандартов безопасности труда. Системы фотолюминесцентные эвакуационные. Элементы систем. Классификация. Общие технические требования. Методы контрол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ить ГОСТ Р 12.2.143-2002 с 1 июля 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крепить утвержденный стандарт за Управлением технического регулирования и стандар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ого аген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И.ЭЛ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89000"/>
            <a:ext cx="86407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стоящий стандарт распро-страняется на фотолюминесцентные эвакуационные системы (</a:t>
            </a:r>
            <a:r>
              <a:rPr b="1" lang="ru-RU" sz="3200" spc="-1" strike="noStrike">
                <a:solidFill>
                  <a:srgbClr val="00ffff"/>
                </a:solidFill>
                <a:latin typeface="Bookman Old Style"/>
              </a:rPr>
              <a:t>далее - ФЭС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) и элементы сист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В ТОМ ЧИСЛЕ ПЛАНЫ ЭВАКУАЦИИ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станавливает требования к ФЭС, процессам ее проектирования, мон-тажа и технического обслу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4000" y="189000"/>
            <a:ext cx="8640720" cy="60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00ff00"/>
                </a:solidFill>
                <a:latin typeface="Bookman Old Style"/>
              </a:rPr>
              <a:t>ФЭС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 является самостоятельной системой безопасности которая применяется в целях обеспечения эвакуации и информации о правилах поведения в условиях ограниченной видимости (сумерек, задымления, тумана) или полной темноты (аварийного отключения освещения), при угрозе возникновения и возникновения ЧС (пожара, аварии, угрозы совершения террористического акта), вызывающей необходимость эвакуации и спасения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360" y="189000"/>
            <a:ext cx="842472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ФЭС устанавливают и применя-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в зда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в наземных и подземных соору-ж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на наземных, подземных, плаву-чих и воздушных транспортных средствах (железнодорожных пасса-жирских вагонах, автобусах, поез-дах метро, морских и речных судах, самолетах и т.п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- на морских (речных) объе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6:07:55Z</dcterms:created>
  <dc:creator>МЧС</dc:creator>
  <dc:description/>
  <dc:language>en-US</dc:language>
  <cp:lastModifiedBy>Home</cp:lastModifiedBy>
  <dcterms:modified xsi:type="dcterms:W3CDTF">2017-06-29T06:03:15Z</dcterms:modified>
  <cp:revision>131</cp:revision>
  <dc:subject/>
  <dc:title>Слайд 1</dc:title>
</cp:coreProperties>
</file>